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CE87-6CC0-417F-808D-69DEC7A26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5BBC-207B-4415-BD36-5A1943248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Title Slide.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66D-A2C8-4941-AFDB-7710A7E9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995-733C-4472-81B0-42F7BE87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24D-DA52-4099-BD6A-12B94D52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591-15FC-415C-8B25-75684589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A410-A1EE-490B-87B3-6F7E7F2F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E37E-7DB3-4C34-B6AF-F0231F9A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2A3D-0629-4C89-91D3-55E51956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18F3-9CBA-4D54-9BE7-D1D9D67A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A9EA-680B-46ED-9A85-0443398A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3B40-9817-4023-B8EE-85EB589E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B703-CCFF-42DC-85B7-BC82C65B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79DE-0B6E-4D1E-B58C-DC7E64FB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FDB1-C9CA-4AD5-B446-259FEAA7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3018-D286-4A74-A3CA-DBA6DD34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5E03-EFCB-4A33-8567-03E38D29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B485-49FE-4D57-872D-B0FB9DB8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3DF0-9CA0-4129-85D0-BB591856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5D8-62DF-46DD-9C32-1580617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8F9-3B59-4A52-BC1F-352F29B8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BC0-DAA0-4136-A5A0-704E5374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095-31B1-402E-AA47-13308E56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15B-41BC-4DCD-96C3-732219F7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B76-F534-4C84-9B18-B2E4E2FE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272-6109-462C-8ECB-4B4680FB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CFF1-CF8F-42CA-AB0F-72FD59EBE3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C3C7-F1CF-4E5A-BA63-9128A88DC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 2003 Exerci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mputer Education Instit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Against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of key financial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spending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enue and Prof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cast vs ac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ss mar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 tr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company to rest of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multiple slides to break out meaningful det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Spending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&amp;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es and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and adminis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of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needing attention/ca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es and 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dco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e want to see our count 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have 10 companies vying for t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ant 40 compa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leg work needs to be d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 for Next Peri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undertak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key eff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key successes/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terate key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of Key Objectiv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&amp; Critical Success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company u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company success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d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key undertakings of past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id W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ef overview of performance against each 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3886200" y="3048120"/>
            <a:ext cx="4191120" cy="2971800"/>
          </a:xfrm>
          <a:prstGeom prst="irregularSeal1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the slide to dele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chec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LUCK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tional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and broad goals of each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 chart might be effectiv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Issues Facing Compa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 any high profile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of Prior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21:16:47Z</dcterms:created>
  <dc:creator>Angie Anglin</dc:creator>
  <dc:description/>
  <dc:language>en-US</dc:language>
  <cp:lastModifiedBy>joe</cp:lastModifiedBy>
  <dcterms:modified xsi:type="dcterms:W3CDTF">2008-10-30T16:52:14Z</dcterms:modified>
  <cp:revision>24</cp:revision>
  <dc:subject/>
  <dc:title>PowerPoint 2000 Practice Exam</dc:title>
</cp:coreProperties>
</file>